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3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7.jpeg" ContentType="image/jpeg"/>
  <Override PartName="/ppt/media/image13.png" ContentType="image/png"/>
  <Override PartName="/ppt/media/image37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4.png" ContentType="image/png"/>
  <Override PartName="/ppt/media/image30.jpeg" ContentType="image/jpeg"/>
  <Override PartName="/ppt/media/image31.jpeg" ContentType="image/jpeg"/>
  <Override PartName="/ppt/media/image38.wmf" ContentType="image/x-wmf"/>
  <Override PartName="/ppt/media/image4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d by Catherine Pilachowsk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3A40-B7E4-4180-8924-3992E35C6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70BD-A3DB-402F-B4C1-4C914776D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249C-6789-4F51-881E-EF670832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BBC1-59EB-43D3-ADC6-BAA4BEA1A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073A-7140-4562-920E-ACF373E8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67FF-AC95-4E4C-9B90-14BBA6B8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594B-DC28-40E7-932E-FE7427B2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03F4-89AE-4561-8354-3C498BE6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1177-871C-41F3-A970-D7FC078E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93680" y="274680"/>
            <a:ext cx="669276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40AF-8E49-4346-A926-445B65CF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1214-6BA2-494F-A12A-722006A0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BEF0-9D04-4D0C-A20A-92623D67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7A4C-C253-47F9-B29D-F34405D0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2280" y="6487920"/>
            <a:ext cx="26496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uk-UA" sz="1400" spc="-1" strike="noStrike">
                <a:solidFill>
                  <a:srgbClr val="a50021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a50021"/>
                </a:solidFill>
                <a:latin typeface="Comic Sans MS"/>
              </a:rPr>
              <a:t>Pilachowski / August 20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840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a50021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1480" y="6514920"/>
            <a:ext cx="1219320" cy="32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a50021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a50021"/>
                </a:solidFill>
                <a:latin typeface="Comic Sans MS"/>
              </a:rPr>
              <a:t>Slide </a:t>
            </a:r>
            <a:fld id="{1E7ED9FC-A0A7-4C44-A18F-C0FD22EA63FC}" type="slidenum">
              <a:rPr b="0" i="1" lang="en-US" sz="1200" spc="-1" strike="noStrike">
                <a:solidFill>
                  <a:srgbClr val="a50021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3405240" y="6619680"/>
            <a:ext cx="2511360" cy="1260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Line 8"/>
          <p:cNvSpPr/>
          <p:nvPr/>
        </p:nvSpPr>
        <p:spPr>
          <a:xfrm>
            <a:off x="2063880" y="1262160"/>
            <a:ext cx="6651360" cy="0"/>
          </a:xfrm>
          <a:prstGeom prst="line">
            <a:avLst/>
          </a:prstGeom>
          <a:ln w="381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sc.spitzer.caltech.edu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ssc.spitzer.caltech.edu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ssc.spitzer.caltech.edu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sc.spitzer.caltech.edu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ssc.spitzer.caltech.edu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ssc.spitzer.caltech.edu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2280" y="269640"/>
            <a:ext cx="7662960" cy="10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Universe in the Infra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76000" y="3593880"/>
            <a:ext cx="7434360" cy="12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the Spitzer Space Telescope, and how does it work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3367080" y="1711440"/>
            <a:ext cx="5243400" cy="13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Comic Sans MS"/>
              </a:rPr>
              <a:t>All about Spitzer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Comic Sans MS"/>
              <a:ea typeface="Comic Sans MS"/>
            </a:endParaRPr>
          </a:p>
        </p:txBody>
      </p:sp>
      <p:pic>
        <p:nvPicPr>
          <p:cNvPr id="53" name="Picture 5" descr="spitzer_logo_color_small"/>
          <p:cNvPicPr/>
          <p:nvPr/>
        </p:nvPicPr>
        <p:blipFill>
          <a:blip r:embed="rId1"/>
          <a:stretch/>
        </p:blipFill>
        <p:spPr>
          <a:xfrm>
            <a:off x="250920" y="5659560"/>
            <a:ext cx="2743200" cy="1020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3378600" y="6167520"/>
            <a:ext cx="529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Funded by NASA’s Spitzer Science Cen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Line 7"/>
          <p:cNvSpPr/>
          <p:nvPr/>
        </p:nvSpPr>
        <p:spPr>
          <a:xfrm>
            <a:off x="5977080" y="6613560"/>
            <a:ext cx="2582640" cy="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4062240" y="5527800"/>
            <a:ext cx="463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mages courtesy NASA/JPL - Calte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10" descr="sirtf_09_2002_small"/>
          <p:cNvPicPr/>
          <p:nvPr/>
        </p:nvPicPr>
        <p:blipFill>
          <a:blip r:embed="rId2"/>
          <a:stretch/>
        </p:blipFill>
        <p:spPr>
          <a:xfrm>
            <a:off x="198360" y="212760"/>
            <a:ext cx="1652760" cy="11383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58" name="Нижний колонтитул 9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93680" y="380520"/>
            <a:ext cx="467676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eeping Spitzer Col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7680" y="1599840"/>
            <a:ext cx="420984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lescope operates at 5.5 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Picture 4" descr="feature200308-3small"/>
          <p:cNvPicPr/>
          <p:nvPr/>
        </p:nvPicPr>
        <p:blipFill>
          <a:blip r:embed="rId1"/>
          <a:stretch/>
        </p:blipFill>
        <p:spPr>
          <a:xfrm>
            <a:off x="5253120" y="1371600"/>
            <a:ext cx="3424320" cy="51516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11" name="Picture 5" descr="SSC Home Page"/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507960" y="2655720"/>
            <a:ext cx="4197240" cy="13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?  -  Spitzer is itself a black body radiator, and must be colder than the astronomical sources it dete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582480" y="4386240"/>
            <a:ext cx="37134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liocentric orb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ar shield/solar cel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ter shell insulates and cools the telesco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31600" y="608040"/>
            <a:ext cx="741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ing Spitzer’s Instruments Even Col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Picture 5" descr="Cryostat"/>
          <p:cNvPicPr/>
          <p:nvPr/>
        </p:nvPicPr>
        <p:blipFill>
          <a:blip r:embed="rId1"/>
          <a:stretch/>
        </p:blipFill>
        <p:spPr>
          <a:xfrm>
            <a:off x="0" y="0"/>
            <a:ext cx="1736640" cy="202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Cryostat"/>
          <p:cNvPicPr/>
          <p:nvPr/>
        </p:nvPicPr>
        <p:blipFill>
          <a:blip r:embed="rId2"/>
          <a:stretch/>
        </p:blipFill>
        <p:spPr>
          <a:xfrm>
            <a:off x="216000" y="2637000"/>
            <a:ext cx="2770200" cy="33829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18" name="Picture 13" descr="Diagram 2"/>
          <p:cNvPicPr/>
          <p:nvPr/>
        </p:nvPicPr>
        <p:blipFill>
          <a:blip r:embed="rId3"/>
          <a:stretch/>
        </p:blipFill>
        <p:spPr>
          <a:xfrm>
            <a:off x="3189240" y="2187720"/>
            <a:ext cx="5837400" cy="4167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61840" y="1434600"/>
            <a:ext cx="698652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tank of liquid helium is used to keep Spitzer’s instruments and detectors at 1.5 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94040" y="579240"/>
            <a:ext cx="4613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itzer’s Instru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68320" y="1600200"/>
            <a:ext cx="7964640" cy="21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RAC –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fr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ra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e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ages at 3.6, 4.5, 5.8, and 8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RS –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fr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ctrograp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d-IR spectroscop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PS –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ltib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g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tometer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tz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ages at 24, 70, and 16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3" name="Picture 5" descr="MIC"/>
          <p:cNvPicPr/>
          <p:nvPr/>
        </p:nvPicPr>
        <p:blipFill>
          <a:blip r:embed="rId1"/>
          <a:stretch/>
        </p:blipFill>
        <p:spPr>
          <a:xfrm>
            <a:off x="709560" y="3567240"/>
            <a:ext cx="7602480" cy="2736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SSC Home Page"/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7432200" y="361476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I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4600080" y="5845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MI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7738920" y="580392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IRA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94040" y="523800"/>
            <a:ext cx="626256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raRed Array Camera (IRAC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0" name="Picture 5" descr="Various Views of IRAC in Assembly"/>
          <p:cNvPicPr/>
          <p:nvPr/>
        </p:nvPicPr>
        <p:blipFill>
          <a:blip r:embed="rId1"/>
          <a:stretch/>
        </p:blipFill>
        <p:spPr>
          <a:xfrm>
            <a:off x="5078520" y="1776240"/>
            <a:ext cx="3809880" cy="4524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IRAC Conceptual Layout"/>
          <p:cNvPicPr/>
          <p:nvPr/>
        </p:nvPicPr>
        <p:blipFill>
          <a:blip r:embed="rId2"/>
          <a:stretch/>
        </p:blipFill>
        <p:spPr>
          <a:xfrm>
            <a:off x="316080" y="3197160"/>
            <a:ext cx="4422600" cy="3273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IRAC - Infrared Array Camera for the Spitzer Space Telescope"/>
          <p:cNvPicPr/>
          <p:nvPr/>
        </p:nvPicPr>
        <p:blipFill>
          <a:blip r:embed="rId3"/>
          <a:stretch/>
        </p:blipFill>
        <p:spPr>
          <a:xfrm>
            <a:off x="282600" y="430200"/>
            <a:ext cx="1471680" cy="8859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50540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ilt at the Smithsonian Astrophysical Observat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ultaneous images in four IR passban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93680" y="469800"/>
            <a:ext cx="4794120" cy="7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raRed Spectrome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43520" y="4898880"/>
            <a:ext cx="4806720" cy="14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ilt at Cornell Univers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troscopy in the mid-I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" name="Picture 7" descr="IRS&amp;Jeff1s"/>
          <p:cNvPicPr/>
          <p:nvPr/>
        </p:nvPicPr>
        <p:blipFill>
          <a:blip r:embed="rId1"/>
          <a:stretch/>
        </p:blipFill>
        <p:spPr>
          <a:xfrm>
            <a:off x="384120" y="3952800"/>
            <a:ext cx="3319560" cy="22100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38" name="Picture 5" descr="IRS Diagram"/>
          <p:cNvPicPr/>
          <p:nvPr/>
        </p:nvPicPr>
        <p:blipFill>
          <a:blip r:embed="rId2"/>
          <a:stretch/>
        </p:blipFill>
        <p:spPr>
          <a:xfrm>
            <a:off x="2936880" y="1492200"/>
            <a:ext cx="5745240" cy="30006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39" name="Picture 9" descr="IRS Logo"/>
          <p:cNvPicPr/>
          <p:nvPr/>
        </p:nvPicPr>
        <p:blipFill>
          <a:blip r:embed="rId3"/>
          <a:stretch/>
        </p:blipFill>
        <p:spPr>
          <a:xfrm>
            <a:off x="311040" y="239760"/>
            <a:ext cx="14288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band Imaging Photometer for Spitzer (MIP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Picture 5" descr="MIPS Diagram"/>
          <p:cNvPicPr/>
          <p:nvPr/>
        </p:nvPicPr>
        <p:blipFill>
          <a:blip r:embed="rId1"/>
          <a:stretch/>
        </p:blipFill>
        <p:spPr>
          <a:xfrm>
            <a:off x="1092240" y="1366920"/>
            <a:ext cx="3965400" cy="3649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cmpmips4.JPG (177820 bytes)"/>
          <p:cNvPicPr/>
          <p:nvPr/>
        </p:nvPicPr>
        <p:blipFill>
          <a:blip r:embed="rId2"/>
          <a:stretch/>
        </p:blipFill>
        <p:spPr>
          <a:xfrm rot="18955800">
            <a:off x="4808160" y="2949120"/>
            <a:ext cx="3822840" cy="252108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44" name="Picture 10" descr="patchfnl2.jpg (17379 bytes)"/>
          <p:cNvPicPr/>
          <p:nvPr/>
        </p:nvPicPr>
        <p:blipFill>
          <a:blip r:embed="rId3"/>
          <a:stretch/>
        </p:blipFill>
        <p:spPr>
          <a:xfrm>
            <a:off x="360360" y="190440"/>
            <a:ext cx="1162080" cy="15429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4200" y="4868640"/>
            <a:ext cx="4875120" cy="16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ree detector array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8x128 pixel Si:As for 24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2x32 pixel Ge:Ga for 70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x20 pixel Ge:Ga for 160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72120" y="1386000"/>
            <a:ext cx="358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ilt at the University  of Arizo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94040" y="536040"/>
            <a:ext cx="516888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pitzer Focal Pla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44360"/>
            <a:ext cx="409248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2056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itzer instruments are arranged in fixed locations on the Spitzer focal pla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2056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elescope is rotated to move a particular science target to the right position for the instrument to be 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2056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 instruments record data for “serendipitous” fiel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Picture 4" descr="focalplane_ch2"/>
          <p:cNvPicPr/>
          <p:nvPr/>
        </p:nvPicPr>
        <p:blipFill>
          <a:blip r:embed="rId4"/>
          <a:stretch/>
        </p:blipFill>
        <p:spPr>
          <a:xfrm>
            <a:off x="4902120" y="1417680"/>
            <a:ext cx="3810240" cy="4964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MIC"/>
          <p:cNvPicPr/>
          <p:nvPr/>
        </p:nvPicPr>
        <p:blipFill>
          <a:blip r:embed="rId5"/>
          <a:srcRect l="54739" t="0" r="0" b="0"/>
          <a:stretch/>
        </p:blipFill>
        <p:spPr>
          <a:xfrm>
            <a:off x="352440" y="174600"/>
            <a:ext cx="15937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94040" y="523800"/>
            <a:ext cx="40320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itzer Oper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4" descr="SSC Home Page"/>
          <p:cNvPicPr/>
          <p:nvPr/>
        </p:nvPicPr>
        <p:blipFill>
          <a:blip r:embed="rId1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Blue and Red Diagram of Spitzer"/>
          <p:cNvPicPr/>
          <p:nvPr/>
        </p:nvPicPr>
        <p:blipFill>
          <a:blip r:embed="rId2"/>
          <a:stretch/>
        </p:blipFill>
        <p:spPr>
          <a:xfrm>
            <a:off x="4270320" y="1865160"/>
            <a:ext cx="4481640" cy="4104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0680" y="5958000"/>
            <a:ext cx="636912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ww.spitzer.caltech.edu/about/now.sht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11040" y="4929120"/>
            <a:ext cx="329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Spitzer Doing Now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observe.mpeg" descr=""/>
          <p:cNvPicPr/>
          <p:nvPr/>
        </p:nvPicPr>
        <p:blipFill>
          <a:blip r:embed="rId3"/>
          <a:stretch/>
        </p:blipFill>
        <p:spPr>
          <a:xfrm>
            <a:off x="328680" y="1468440"/>
            <a:ext cx="3751200" cy="28130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94040" y="538200"/>
            <a:ext cx="548784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ture Infrared Satelli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5" descr="first"/>
          <p:cNvPicPr/>
          <p:nvPr/>
        </p:nvPicPr>
        <p:blipFill>
          <a:blip r:embed="rId1"/>
          <a:stretch/>
        </p:blipFill>
        <p:spPr>
          <a:xfrm>
            <a:off x="214200" y="4573440"/>
            <a:ext cx="2805120" cy="16830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162" name="Text Box 6"/>
          <p:cNvSpPr/>
          <p:nvPr/>
        </p:nvSpPr>
        <p:spPr>
          <a:xfrm>
            <a:off x="254160" y="1682640"/>
            <a:ext cx="2835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007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erschel Space Observatory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- a European Space Agency infrared-submillimeter mission planned for 2007 to study galaxy formation, interstellar matter, star formation and the atmospheres of comets and planets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8" descr="planck"/>
          <p:cNvPicPr/>
          <p:nvPr/>
        </p:nvPicPr>
        <p:blipFill>
          <a:blip r:embed="rId2"/>
          <a:stretch/>
        </p:blipFill>
        <p:spPr>
          <a:xfrm>
            <a:off x="3728880" y="1519200"/>
            <a:ext cx="1352880" cy="16668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164" name="Text Box 9"/>
          <p:cNvSpPr/>
          <p:nvPr/>
        </p:nvSpPr>
        <p:spPr>
          <a:xfrm>
            <a:off x="5222880" y="1484280"/>
            <a:ext cx="3562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007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lanck Surveyor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- European Space Agency far infrared-submillimeter mission planned for 2007 to study Cosmic Background Radiation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3548160" y="3646800"/>
            <a:ext cx="304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010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he James Webb Space Telescope, planned for launch in about 2011, is a visible/infrared space mission to study the early universe and the formation of galaxies, stars and planet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15" descr="ngst"/>
          <p:cNvPicPr/>
          <p:nvPr/>
        </p:nvPicPr>
        <p:blipFill>
          <a:blip r:embed="rId3"/>
          <a:stretch/>
        </p:blipFill>
        <p:spPr>
          <a:xfrm>
            <a:off x="6550200" y="3579840"/>
            <a:ext cx="2417760" cy="27590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67" name="Picture 17" descr="MCj02327650000[1]"/>
          <p:cNvPicPr/>
          <p:nvPr/>
        </p:nvPicPr>
        <p:blipFill>
          <a:blip r:embed="rId4"/>
          <a:stretch/>
        </p:blipFill>
        <p:spPr>
          <a:xfrm>
            <a:off x="409680" y="206280"/>
            <a:ext cx="106992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93680" y="446040"/>
            <a:ext cx="26384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84240" y="1600200"/>
            <a:ext cx="681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SA’s Great Observator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oducing Spitz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itzer’s Laun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b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ming Spitz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elesco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tru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ture IR Telescop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4" descr="SSC Home P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Picture 10" descr="Hubble Against Earth's Horizon"/>
          <p:cNvPicPr/>
          <p:nvPr/>
        </p:nvPicPr>
        <p:blipFill>
          <a:blip r:embed="rId1"/>
          <a:stretch/>
        </p:blipFill>
        <p:spPr>
          <a:xfrm>
            <a:off x="449280" y="1477800"/>
            <a:ext cx="2190600" cy="14623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SA’s Great Observator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3040" y="5314680"/>
            <a:ext cx="599112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pitzer is the final spacecraft in NASA's Great Observatories progr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Picture 8" descr="AXAF-smaller2"/>
          <p:cNvPicPr/>
          <p:nvPr/>
        </p:nvPicPr>
        <p:blipFill>
          <a:blip r:embed="rId2"/>
          <a:stretch/>
        </p:blipFill>
        <p:spPr>
          <a:xfrm>
            <a:off x="450720" y="4903920"/>
            <a:ext cx="2202120" cy="14126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69" name="Picture 5" descr="sirtf_09_2002_small"/>
          <p:cNvPicPr/>
          <p:nvPr/>
        </p:nvPicPr>
        <p:blipFill>
          <a:blip r:embed="rId3"/>
          <a:stretch/>
        </p:blipFill>
        <p:spPr>
          <a:xfrm>
            <a:off x="3176640" y="1495440"/>
            <a:ext cx="5205240" cy="35877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70" name="Picture 12" descr="CGRO Cartoon"/>
          <p:cNvPicPr/>
          <p:nvPr/>
        </p:nvPicPr>
        <p:blipFill>
          <a:blip r:embed="rId4"/>
          <a:stretch/>
        </p:blipFill>
        <p:spPr>
          <a:xfrm>
            <a:off x="423720" y="3137040"/>
            <a:ext cx="2210040" cy="15843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71" name="Text Box 13"/>
          <p:cNvSpPr/>
          <p:nvPr/>
        </p:nvSpPr>
        <p:spPr>
          <a:xfrm>
            <a:off x="459000" y="2592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ST 199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345240" y="437832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mpton GRO 199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551520" y="5943600"/>
            <a:ext cx="16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handra 199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20" descr="Full White"/>
          <p:cNvPicPr/>
          <p:nvPr/>
        </p:nvPicPr>
        <p:blipFill>
          <a:blip r:embed="rId5"/>
          <a:srcRect l="20720" t="16750" r="17934" b="19830"/>
          <a:stretch/>
        </p:blipFill>
        <p:spPr>
          <a:xfrm>
            <a:off x="527040" y="214200"/>
            <a:ext cx="112392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94040" y="618840"/>
            <a:ext cx="438768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oducing Spitz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2120" y="1663200"/>
            <a:ext cx="342288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The Spitzer Space Telescope is a cryogenically cooled, infrared observatory in space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pitzer can study objects ranging from our Solar System to the distant reaches of the Univers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Picture 6" descr="xsirtf_08_2002_small"/>
          <p:cNvPicPr/>
          <p:nvPr/>
        </p:nvPicPr>
        <p:blipFill>
          <a:blip r:embed="rId1"/>
          <a:stretch/>
        </p:blipFill>
        <p:spPr>
          <a:xfrm>
            <a:off x="3879720" y="1663560"/>
            <a:ext cx="4934160" cy="43419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80" name="Picture 7" descr="SSC Home P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7" descr="ir_launch_3"/>
          <p:cNvPicPr/>
          <p:nvPr/>
        </p:nvPicPr>
        <p:blipFill>
          <a:blip r:embed="rId1"/>
          <a:stretch/>
        </p:blipFill>
        <p:spPr>
          <a:xfrm>
            <a:off x="905040" y="1474920"/>
            <a:ext cx="6502320" cy="48765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93680" y="552600"/>
            <a:ext cx="19875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un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85480" y="1584360"/>
            <a:ext cx="3227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a12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Launched from KSC 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25 August 200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a12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Lifetim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2.5 years (minimum)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5+ years (goal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4" descr="feature200308-4small"/>
          <p:cNvPicPr/>
          <p:nvPr/>
        </p:nvPicPr>
        <p:blipFill>
          <a:blip r:embed="rId2"/>
          <a:stretch/>
        </p:blipFill>
        <p:spPr>
          <a:xfrm>
            <a:off x="5451480" y="395280"/>
            <a:ext cx="3192480" cy="46483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86" name="Picture 5" descr="SSC Home P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94040" y="538200"/>
            <a:ext cx="35496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liocentric Orb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947600"/>
            <a:ext cx="4495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st space telescopes orbit the Ear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itzer orbits the Sun - trailing the Earth as it moves around the Su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itzer is receding from Earth at 9.3 million miles (15 million kilometers) per ye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itzer now trails the Earth in its orbit by about 20 million miles (~ 32 million kilometers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2008, Spitzer will be about 56 million miles or 90 million kilometers a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5" descr="SSC Home P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earth_trailing2small"/>
          <p:cNvPicPr/>
          <p:nvPr/>
        </p:nvPicPr>
        <p:blipFill>
          <a:blip r:embed="rId3"/>
          <a:stretch/>
        </p:blipFill>
        <p:spPr>
          <a:xfrm>
            <a:off x="5892840" y="404640"/>
            <a:ext cx="2609640" cy="19605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92" name="orbit.mpeg" descr=""/>
          <p:cNvPicPr/>
          <p:nvPr/>
        </p:nvPicPr>
        <p:blipFill>
          <a:blip r:embed="rId4"/>
          <a:stretch/>
        </p:blipFill>
        <p:spPr>
          <a:xfrm>
            <a:off x="5013360" y="3021120"/>
            <a:ext cx="3948120" cy="296208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335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76120" y="566640"/>
            <a:ext cx="461484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d for Lyman Spitz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240" y="1641240"/>
            <a:ext cx="3963960" cy="43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yman Spitzer was the driving force behind H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33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nded the study of the interstellar mediu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33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ied interstellar dust and star 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Picture 5" descr="Lyman Spitzer, Jr."/>
          <p:cNvPicPr/>
          <p:nvPr/>
        </p:nvPicPr>
        <p:blipFill>
          <a:blip r:embed="rId1"/>
          <a:stretch/>
        </p:blipFill>
        <p:spPr>
          <a:xfrm>
            <a:off x="541440" y="1677960"/>
            <a:ext cx="3440160" cy="43736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97" name="Picture 6" descr="SSC Home P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ижний колонтитул 6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59180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oducing the Telesco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Picture 3" descr="config1"/>
          <p:cNvPicPr/>
          <p:nvPr/>
        </p:nvPicPr>
        <p:blipFill>
          <a:blip r:embed="rId1"/>
          <a:stretch/>
        </p:blipFill>
        <p:spPr>
          <a:xfrm>
            <a:off x="1184400" y="1374840"/>
            <a:ext cx="7356240" cy="4910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SSC Home P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94040" y="274680"/>
            <a:ext cx="36446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pitzer Spec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648320" cy="45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Mirro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85 cm (33.5”) diame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lightweight berylliu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f/12 curvat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eight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Telescope: 851.5 k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He cryogen: 50.4 k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 propellent: 15.6 k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Picture 4" descr="mirror_tech"/>
          <p:cNvPicPr/>
          <p:nvPr/>
        </p:nvPicPr>
        <p:blipFill>
          <a:blip r:embed="rId1"/>
          <a:stretch/>
        </p:blipFill>
        <p:spPr>
          <a:xfrm>
            <a:off x="4800600" y="1371600"/>
            <a:ext cx="3784680" cy="50767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06" name="Picture 5" descr="SSC Home Page"/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3T14:40:01Z</dcterms:created>
  <dc:creator>Catherine Pilachowski</dc:creator>
  <dc:description/>
  <dc:language>en-US</dc:language>
  <cp:lastModifiedBy>LEGION</cp:lastModifiedBy>
  <dcterms:modified xsi:type="dcterms:W3CDTF">2018-03-22T08:49:35Z</dcterms:modified>
  <cp:revision>17</cp:revision>
  <dc:subject/>
  <dc:title>Slide 1</dc:title>
</cp:coreProperties>
</file>